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64F-4AEC-4F34-9509-68244BF6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061-C471-447D-B73E-4EB6318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35A7-BA0F-47EF-B29A-C3CB5F3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59BBB-DF3C-410C-98E1-9AEB693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9ABE3-6799-417B-B59E-92AE761E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63ED6-64BF-48B4-93F1-929FD09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6F5A0-F287-4DB3-90E8-75AB21A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DBAF1-A77B-444F-A2A8-11CDDC9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094A-89B2-48F5-AFC0-36193D4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0447-7021-442B-BC8A-EF9FDAB8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9057-D77A-4F83-A00D-950D2514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4E95E-EEB0-483A-A5DB-E82FD2AF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BB7-29A7-4AB0-8DA2-F5A6F860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19091-66D1-47CE-9612-DD3E7C0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5A57E-1E2A-4769-94B1-5ADF1376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71A35-7902-4FD8-86BB-15A4E345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F0024-07DA-42C4-8050-EF67C61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A0A1-C142-4458-B592-CB4A370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02EF4-676E-406E-9D2C-D64F827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73B00-6D85-43EC-877F-EE248BD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AB518-1B70-4C4D-A85C-B07FDC9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635ED-4630-4C21-99C6-F56A3BA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099B3-5C12-42D5-8EC5-37D884BE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A58-E904-4C19-91B4-382F318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326E5-D815-4F8D-BB03-0696A51B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6A705-CF05-48A0-B369-862ED20E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3889-734B-4B16-AE23-3F1D09F7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350E-5DC3-4B1F-B132-F7DBE56B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0163-7360-429D-B5D8-D5A06AFD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AB1B-4C43-417D-A81A-4C193C2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C419A-1E50-4E62-9DDE-16CF278B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9E77-499C-45C1-9737-B0596AC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7A89-FFEE-4ADB-A231-C985D0B3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33230-F1AA-4BE8-983A-48C544A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9F45-57A0-4256-A279-E7CF04F2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B958-61AD-4E31-84CC-54D9960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B101-E467-42B2-8E36-FC73912E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0501B-815A-41F9-9A62-472AB352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8C01B-BCDD-4198-94B7-A42643AC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0F396-71DA-4941-8ABC-CC0438E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BE601-06D4-4103-9E23-0BDCB2A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07CAB-2224-4BEB-AF5E-E2CC43A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BB6B3-26AC-4893-8B6A-8ECBF2EB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7C4A9-5E89-4EF3-9A8F-81B42AA4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F3E15-870E-42D9-93FC-5169835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3071-D55A-4C3A-895B-F12251A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0EE00-76A4-4B03-AC05-BDE36ECF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08F6A-DE6A-4743-BC6B-540C3E2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66276-3C1E-4F08-9A2A-8C6FF5F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85C64-EA5C-4827-A2BD-4C2659A5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E8F91-CEBB-4CD8-886F-D46D5EF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1545-9D85-461C-89C8-15A262F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C0F-948B-4AFC-BA83-8FF5CF1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E1B-16F5-44E5-BCBF-831796C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A5F9-065D-4315-B2E2-EEFD769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C2A1-7DF9-473A-978B-6667A06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7B6-4A14-465C-ADAB-E290D0D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1ED2-75A8-4DE0-A5A4-72D4014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463-2BB3-4CBF-A325-E70A4A6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2ED2-F510-4485-BF31-7558C81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D781-7A7B-4185-B7BB-B3CE55C3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8784-1ED4-49C3-AF56-B9DE251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C1FA-F91E-42A8-ACB0-62B411A1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924F-473C-4D32-A407-982B18C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8925-2EC8-4C36-8560-B8CB770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E69D-B31B-46FF-8FCF-D8ED7877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130F-24D7-4096-8200-CEA3492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C1B-57B1-4F61-AFDA-093503E1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9F71-6746-47E5-9447-74681BF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25E5-E793-49B0-9A9A-114D3A5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E4AD-F73F-40AB-BE10-4D96720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6974-09B3-499F-BF01-B4EA590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DE31-643C-484A-897C-7848512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7F99-2EEB-4FA0-AC0A-409D12B6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0F80-2F52-4DF8-8D52-00080145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F942-5D26-4276-91BF-C9F97F24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EEB2-0AE0-4156-B960-9AA247E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6734-8D99-447A-A311-A3BCE83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F1A-102C-43C8-B50B-D2BA692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F5A1-AB9D-40C3-92DB-84183B43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71A2-E114-4C87-8A9E-D34FC0B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70D1-AF58-4B76-BB9D-9F98308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3191-58DE-4415-909D-74D2130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2F79-DFB3-448B-8737-D1950DE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CCA8-6CC5-47E6-9A60-E74525E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25F5-06B5-4632-9D2C-D475387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9BB5-12CF-4417-9779-FF163E8F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C514-7596-494A-B4CF-6CCA6FE7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EDA2-A012-4B19-AEDE-1116890C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BB4-6348-438D-A567-1BB993B3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1EE6-E675-4A7B-B553-20ABFB9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E18F-ECD5-4205-A254-C67EB3C1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E08F-ACE6-4DD7-BBE1-A171E500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E741-8056-4666-A4A7-2332FFD1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7668-6A3D-4E16-8444-F117C54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5EB42-46BD-4473-BCD9-E9F4F70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B391-F085-4341-9D30-62BA856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522B-7F2A-4CD6-A5C4-0CDD0FB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AB90-7354-4B7E-AD5F-A7D22CA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FB09-A2B8-40FC-87DF-92F6E7AE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8EA-6B8C-4952-A9A8-04799D87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1976-750A-45FD-87CD-3BD3C518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E1DB-D601-4841-B677-5D200BA9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7A82-FD93-45B1-B5DA-223603F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7EAC-475F-42D0-8915-885ADC7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E11A-ABA8-4D0D-8F7A-1861904A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84775-96AB-4342-B62A-5E61D478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EB49-E41F-4A7E-B63E-4996C1D6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EF7A8-E000-4EC2-83FE-DEBFA51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6D949-A650-414D-B851-E8BC951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3CBD-6651-42C1-AFC7-7D2162F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9FE-2DCA-4335-AEC0-78B8F34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8812C-3234-49D3-ADF0-6AC59D6E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8975-D7F6-4E2A-BA8C-1FBCF0DB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A992-09DD-4E61-92C6-3B5F18DC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AAA7-93DD-4DFA-B6D9-39DF9910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4A10-CFF9-4F9C-ACF5-8BFFF88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DAB4C-70B5-4ACF-B4A0-BE1E2C6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BFAD-563E-450C-9AC2-03162D12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D5CD-895D-4A2C-A7EC-33A60037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5046-794B-435C-934C-A2A46D2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C429-88F3-4F00-9716-0F7FFE0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A09-1560-4433-AB25-6006DC0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1EA9-B37B-41D6-8EE9-7F501E8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2BF93-223B-420D-A486-C3083D0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04D2-362D-4DEB-9620-18C4DCBF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203C-3D5B-45F3-BE37-1974737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CB05-CD4F-4128-ADA1-EB443F35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BB15-4C60-467C-97D6-9A6E01C9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BA4F3-CDEC-476E-8036-F5AC4C6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C894-8106-4066-AEED-947438C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A9EC-2268-412C-9D41-31D46C28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29BE-7FED-4B6D-BF48-FDE3861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F04-DA6C-4AD4-9212-07F2FF8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11872-49EC-492B-9AF4-7E5069C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7C3B5-67DE-4513-8039-E60FFFA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B861-2207-4A04-B63B-10FD5EF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43DDB-BA2F-487D-818B-794A572B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32417-3D54-477B-ADD6-FB286CB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F4AA8-CC87-4E7B-93DE-6B8DEFE5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EF426-D71A-4FD9-8AE7-C856DD25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5EA2-C437-4BE3-8F8A-F367D70A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44016-E0C3-4958-8D6A-A4B6657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1412F-FD75-4E37-9231-42529723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3FD-01AC-477B-A681-A0DBD0DF8B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9B6F-E4BC-406D-B205-5DF3A651B7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6D67-B15B-45AE-B582-85EA24B8DF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7AB-749C-4E42-9647-A9A2EEAC77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F58-80D1-4778-91A5-9C236E0D16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BB3-E9E7-4085-AB3E-E63B519F57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D6A5-1FF3-4274-BAB5-43BBF09709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AA1-7207-49D0-B536-54C50145B1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9C7-730C-4270-BA3A-09101F19B1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C94-67F8-4BF0-81C3-5AB1FC146A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E58-F377-46AD-8CC4-619E6A27A0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922-9947-45E2-95FE-1BB8262C6C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1 Tak vzácny je a milý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vzácny je a mil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vätej sob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droj požehnania,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ak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kloň v úcte svoju hla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 pokore sa st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význam, cenu prav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tom dare pochopíš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om vzácnom dare svoj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k žriedlu nových kr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 živej vody zdroj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dní únavných zv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deň odpočinku rad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z lásky všetkým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odňať každú star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o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ŕ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c nám pokoj vli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ť vrúcnej vďaky chor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 srdca pl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všetko, čo nám dopri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v s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ánov požehna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ú túžbu budí v 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prijať z Božích dla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ar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tia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kr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18:30Z</dcterms:modified>
  <cp:revision>23</cp:revision>
  <dc:subject/>
  <dc:title>Je veľký náš Pán, on slávy je Kráľ Nech do všetkých strán  spev vrúcnych znie chvál.</dc:title>
</cp:coreProperties>
</file>